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1C09-BF97-4A63-BC32-0EAB7659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4818-A378-443B-A65E-53D4F218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AA6B-00D3-496F-A409-745B4575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0A56-E93B-4663-997B-B3033798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D4CEE-7BF9-40AC-89B9-11AE80B2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D75E7-8792-4F76-A546-B3F083BF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E68CF-3FC4-4CE3-8FA3-33E8011C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12DB1-6169-4046-95EE-E0CA8765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232F0-016C-45FF-ABF4-005D85F0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B177F-AB09-48C7-A4EB-7E8EBF87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C065A-6531-4872-B130-5E8AB93C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E634-029B-4A87-8779-7697D6D7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4E86F-59CE-4A54-B38B-611D431A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C98BB-7716-4394-AE96-23D76888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458E8-18AC-4ABF-A993-71884C0C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BED66-118A-4D73-9A68-D924FF13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AE447-D49F-4FCC-95CA-D2EDB8D6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5733-6406-42DD-8709-F27850E3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850B-DD59-4255-BA24-3704274E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B42A-805A-41A8-8121-24E529BF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19E5-B80B-4B68-A493-9DC5926C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8FF2-6465-41FE-AEAA-3793774A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8D3F-D080-4E5D-9D61-9624C23A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2612-ACF3-483D-AAAD-1FC49262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2DF0-6957-4C19-BCBE-E4DD29044B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68C9-00D5-42CD-920F-374FC2469D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bhsweb.glenbrook225.org/gbs/science/phys/Class/energy/u5l1c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83" name="Picture 16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84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Cell Membran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85" name="Picture 8" descr="C:\Users\Liz\AppData\Local\Microsoft\Windows\Temporary Internet Files\Content.IE5\CPHVRLKO\MCj02296450000[1].wmf"/>
          <p:cNvPicPr/>
          <p:nvPr/>
        </p:nvPicPr>
        <p:blipFill>
          <a:blip r:embed="rId3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netic energy of molecules increases as temperature increases.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effect do you think an increase in temperature has on diffusion?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>
            <a:hlinkClick r:id="rId2"/>
          </p:cNvPr>
          <p:cNvSpPr/>
          <p:nvPr/>
        </p:nvSpPr>
        <p:spPr>
          <a:xfrm>
            <a:off x="3657600" y="4419720"/>
            <a:ext cx="1600200" cy="1295280"/>
          </a:xfrm>
          <a:custGeom>
            <a:avLst/>
            <a:gdLst>
              <a:gd name="textAreaLeft" fmla="*/ 83880 w 1600200"/>
              <a:gd name="textAreaRight" fmla="*/ 1516320 w 160020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6683" h="21600">
                <a:moveTo>
                  <a:pt x="0" y="0"/>
                </a:moveTo>
                <a:lnTo>
                  <a:pt x="26683" y="0"/>
                </a:lnTo>
                <a:lnTo>
                  <a:pt x="26683" y="21600"/>
                </a:lnTo>
                <a:lnTo>
                  <a:pt x="0" y="21600"/>
                </a:lnTo>
                <a:close/>
              </a:path>
              <a:path fill="lightenLess" w="26683" h="21600">
                <a:moveTo>
                  <a:pt x="0" y="0"/>
                </a:moveTo>
                <a:lnTo>
                  <a:pt x="26683" y="0"/>
                </a:lnTo>
                <a:lnTo>
                  <a:pt x="25283" y="1400"/>
                </a:lnTo>
                <a:lnTo>
                  <a:pt x="1400" y="1400"/>
                </a:lnTo>
                <a:close/>
              </a:path>
              <a:path fill="darken" w="26683" h="21600">
                <a:moveTo>
                  <a:pt x="26683" y="0"/>
                </a:moveTo>
                <a:lnTo>
                  <a:pt x="26683" y="21600"/>
                </a:lnTo>
                <a:lnTo>
                  <a:pt x="25283" y="20200"/>
                </a:lnTo>
                <a:lnTo>
                  <a:pt x="25283" y="1400"/>
                </a:lnTo>
                <a:close/>
              </a:path>
              <a:path fill="darkenLess" w="26683" h="21600">
                <a:moveTo>
                  <a:pt x="26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83" y="20200"/>
                </a:lnTo>
                <a:close/>
              </a:path>
              <a:path fill="lighten" w="26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83" h="21600">
                <a:moveTo>
                  <a:pt x="1334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683" h="21600">
                <a:moveTo>
                  <a:pt x="1334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683" h="21600">
                <a:moveTo>
                  <a:pt x="10765" y="8224"/>
                </a:moveTo>
                <a:lnTo>
                  <a:pt x="14630" y="8224"/>
                </a:lnTo>
                <a:lnTo>
                  <a:pt x="14630" y="15221"/>
                </a:lnTo>
                <a:lnTo>
                  <a:pt x="15918" y="15221"/>
                </a:lnTo>
                <a:lnTo>
                  <a:pt x="15918" y="16144"/>
                </a:lnTo>
                <a:lnTo>
                  <a:pt x="10765" y="16144"/>
                </a:lnTo>
                <a:lnTo>
                  <a:pt x="10765" y="15221"/>
                </a:lnTo>
                <a:lnTo>
                  <a:pt x="12054" y="15221"/>
                </a:lnTo>
                <a:lnTo>
                  <a:pt x="12054" y="9129"/>
                </a:lnTo>
                <a:lnTo>
                  <a:pt x="10765" y="912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5:33:32Z</dcterms:created>
  <dc:creator>PritchaJ</dc:creator>
  <dc:description/>
  <dc:language>en-US</dc:language>
  <cp:lastModifiedBy>PritchaJ</cp:lastModifiedBy>
  <dcterms:modified xsi:type="dcterms:W3CDTF">2011-06-01T15:37:12Z</dcterms:modified>
  <cp:revision>1</cp:revision>
  <dc:subject/>
  <dc:title>Slide 1</dc:title>
</cp:coreProperties>
</file>